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1DAD-4E8C-4493-8650-6DE27152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0CD9-117A-442B-A7D1-92C1BD58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542C-7E8A-4E8E-A073-C0D21B4D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E6AF-4484-44D9-BCEB-4592A5B2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116B-C8CA-4135-AB94-8FAE30EC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7F60-4B5D-44C8-8C27-E25010A9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4A9F-3710-4033-9273-485E87DF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647F-1FDA-4A0A-B1CE-68C25887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681C-3BB5-4CD5-9972-009C7288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0CAC-11EE-43E7-B571-3A0D1F34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F3E8-528A-4CFD-A0FD-8EDA5A76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EE20-8F58-4C96-917A-6C021CDA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BACF-A517-4F8A-BE45-52851C7D7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Education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a work by: Allison Harr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0572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8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A Gentle Reminder…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sure to download the Unision MP3 file with the Power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70572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am lost in the classro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 refuse to believ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an l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has to accept a life of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ars from now I can only tell my teachers not to believ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rs change the destinies of their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born in poverty and I have been in j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doesn't matter to anyon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live every day of my life in hopeless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longer can it be said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Someone who cares what happens to 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whole life testifies to one tru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has robbed me of every good 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t is no longer tru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rs make a dif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w I don't know much, but I know one thing for 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born poor, with no hope and no future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7816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47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48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3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53" dur="3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54" dur="3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3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59" dur="3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0" dur="3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3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65" dur="3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6" dur="3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3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71" dur="3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72" dur="3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3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77" dur="3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78" dur="3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3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83" dur="3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84" dur="3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3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89" dur="3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90" dur="3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3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95" dur="3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96" dur="3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3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01" dur="3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02" dur="3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3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07" dur="3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08" dur="3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30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13" dur="30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14" dur="30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30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19" dur="30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20" dur="30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3000" fill="hold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25" dur="3000" fill="hold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26" dur="3000" fill="hold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30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31" dur="30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32" dur="30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3000" fill="hold"/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37" dur="3000" fill="hold"/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38" dur="3000" fill="hold"/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3000" fill="hold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43" dur="3000" fill="hold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44" dur="3000" fill="hold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23623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n I had a great Teacher and he turned my life upside down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0"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3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am lost in the classro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 refuse to believ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an l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has to accept a life of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ars from now I can only tell my teachers not to believ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rs change the destinies of their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born in poverty and I have been in j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doesn't matter to anyon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live every day of my life in hopeless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longer can it be said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Someone who cares what happens to 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whole life testifies to one tru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has robbed me of every good 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t is no longer tru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rs make a dif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w I don't know much, but I know one thing for 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born poor, with no hope and no 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477120" y="-3808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58000">
    <p:newsflash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3000" fill="hold"/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62" dur="3000" fill="hold"/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63" dur="3000" fill="hold"/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30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68" dur="30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69" dur="30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30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74" dur="30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75" dur="30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30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80" dur="30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81" dur="30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3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86" dur="3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87" dur="3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3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92" dur="3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93" dur="3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3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98" dur="3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99" dur="3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3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04" dur="3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05" dur="3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3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10" dur="3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11" dur="3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3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16" dur="3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17" dur="3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3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22" dur="3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23" dur="3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28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29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3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34" dur="3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35" dur="3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3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40" dur="3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41" dur="3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3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46" dur="3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47" dur="3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52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53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58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59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Music taken from: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freeplaymusic.com/search/category_search.php?t=f&amp;i=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4T00:46:45Z</dcterms:created>
  <dc:creator>Alfred Toole Jr.</dc:creator>
  <dc:description/>
  <dc:language>en-US</dc:language>
  <cp:lastModifiedBy>localuser</cp:lastModifiedBy>
  <dcterms:modified xsi:type="dcterms:W3CDTF">2010-07-17T21:40:38Z</dcterms:modified>
  <cp:revision>19</cp:revision>
  <dc:subject/>
  <dc:title>Blindness</dc:title>
</cp:coreProperties>
</file>