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4E31-58C6-4B78-B139-2758562A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80DC-6098-4FC2-912F-A1A5D0EE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967C-0408-4F58-9DF9-238B7622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E44F-8EC1-47BF-BE63-F64770FE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1037-02AE-4DB9-B9CF-B562613B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105-3084-4322-8062-1A8AC107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A49A-6CB1-475A-BEAF-088FA1E2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4D3-1E80-421D-9B4C-85940A17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E143-0737-4BB7-B194-71729784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4EFF-3A33-4A59-97CE-C0478B11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DDDD-F18F-4966-A348-C3DA8F04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F1A9-14E7-445B-93F3-9938805D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EA7B-3F60-47A5-AC0A-868E00AE7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a work by: Allison Harr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8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A Gentle Reminder…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ure to download the Unision MP3 file with the Power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705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 lost in the class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 refuse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 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has to accept a life of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rs from now I can only tell my teachers not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change the destinies of their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in poverty and I have been in j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doesn't matter to anyon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live every day of my life in hopeless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longer can it be said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Someone who cares what happens to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whole life testifies to one tr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has robbed me of every good 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t is no longer tru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make a 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I don't know much, but I know one thing for 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poor, with no hope and no futur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7816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4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4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53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4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59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0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3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5" dur="3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6" dur="3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3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71" dur="3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72" dur="3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3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77" dur="3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78" dur="3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3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83" dur="3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84" dur="3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3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89" dur="3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90" dur="3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3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95" dur="3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96" dur="3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3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01" dur="3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02" dur="3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3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07" dur="3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08" dur="3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3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13" dur="3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14" dur="3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30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19" dur="30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20" dur="30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30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25" dur="30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26" dur="30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30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31" dur="30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32" dur="30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30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37" dur="30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38" dur="30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30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43" dur="30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44" dur="30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2362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n I had a great Teacher and he turned my life upside down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0"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3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 lost in the class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 refuse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 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has to accept a life of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rs from now I can only tell my teachers not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change the destinies of their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in poverty and I have been in j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doesn't matter to anyon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live every day of my life in hopeless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longer can it be said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Someone who cares what happens to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whole life testifies to one tr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has robbed me of every good 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t is no longer tru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make a 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I don't know much, but I know one thing for 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poor, with no hope and no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477120" y="-3808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58000">
    <p:newsflash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30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62" dur="30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63" dur="30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3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68" dur="3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69" dur="3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3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74" dur="3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75" dur="3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3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80" dur="3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81" dur="3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3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86" dur="3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87" dur="3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3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92" dur="3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93" dur="3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3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98" dur="3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99" dur="3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3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04" dur="3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05" dur="3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3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10" dur="3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11" dur="3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16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17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22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23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28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29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34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35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40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41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46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47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52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53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58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59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Music taken from: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freeplaymusic.com/search/category_search.php?t=f&amp;i=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00:46:45Z</dcterms:created>
  <dc:creator>Alfred Toole Jr.</dc:creator>
  <dc:description/>
  <dc:language>en-US</dc:language>
  <cp:lastModifiedBy>localuser</cp:lastModifiedBy>
  <dcterms:modified xsi:type="dcterms:W3CDTF">2010-07-17T21:40:38Z</dcterms:modified>
  <cp:revision>19</cp:revision>
  <dc:subject/>
  <dc:title>Blindness</dc:title>
</cp:coreProperties>
</file>