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700-33B2-4432-8D82-147FA89E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85A-F4A0-4C38-BEDD-3FBD3AE2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4AB-2810-4583-A6A6-A3F5ABFD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3E2-36B8-4D4C-8E34-6B3A6702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0CD-9FDD-4125-820A-964B0E93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359-28EF-407F-A5EB-D949D74A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E3E-89EE-458E-9156-AE61711D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6B6-431B-477B-887C-FFE2E208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AB4-D94F-4377-AEC1-F87706DE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759-A8F4-42B3-9150-4C11973F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B2B-8F14-4BFF-BFC4-62D26800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ADE-605B-4B7D-A374-59B6497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2D61-784B-4D01-9AB5-A90C6B284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 work by: Allison Harr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 Gentle Reminder…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to download the Unision MP3 file with the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816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3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9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0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7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8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3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9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0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95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6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1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2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7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3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14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9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0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25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6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1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2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7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43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44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n I had a great Teacher and he turned my life upside down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-380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8000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2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8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9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74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75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0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1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6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7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2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3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8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9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04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05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0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1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6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2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9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34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35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0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1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6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7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2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3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Music taken from: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freeplaymusic.com/search/category_search.php?t=f&amp;i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0:46:45Z</dcterms:created>
  <dc:creator>Alfred Toole Jr.</dc:creator>
  <dc:description/>
  <dc:language>en-US</dc:language>
  <cp:lastModifiedBy>localuser</cp:lastModifiedBy>
  <dcterms:modified xsi:type="dcterms:W3CDTF">2010-07-17T21:40:38Z</dcterms:modified>
  <cp:revision>19</cp:revision>
  <dc:subject/>
  <dc:title>Blindness</dc:title>
</cp:coreProperties>
</file>