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A2F-5AC2-412C-B31B-4289E73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CE2-9DE3-4DEA-832E-2C81169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D27-B8CC-4438-A916-5221B04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552-7310-488D-923F-0715EBEF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7FC-25F9-419D-B78E-D9FEAB4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4C3-D187-4B3B-8DA9-5D5010AD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3E7-FD09-4D4C-90A6-761E5971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9D8-2338-4488-ACCE-560A64D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518-6C25-410C-845D-3EB5155D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483-11FD-401F-85ED-D6EDD82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425-DF16-48AB-8799-4ECE5881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9EF-669D-4CF0-98E3-D90200B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77B-CAAB-4523-9D88-44235CC97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 work by: Allison Harr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A Gentle Reminder…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re to download the Unision MP3 file with the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81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9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77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3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4" dur="3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9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0" dur="3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95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96" dur="3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1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2" dur="3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07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3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19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0" dur="30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25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26" dur="30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1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2" dur="30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8" dur="3000" fill="hold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43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44" dur="30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n I had a great Teacher and he turned my life upside down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am lost in the class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 refuse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s to accept a life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s from now I can only tell my teachers not to believ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change the destinies of thei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in poverty and I have been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matter to anyon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ve every day of my life in hopeless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nger can it be said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Someone who cares what happens to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whole life testifies to one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has robbed me of every good 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t is no longer true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make a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I don't know much, but I know one thing for 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s born poor, with no hope and no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-3808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8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2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68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69" dur="3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16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2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2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3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0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1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46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47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2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3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258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Music taken from: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freeplaymusic.com/search/category_search.php?t=f&amp;i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0:46:45Z</dcterms:created>
  <dc:creator>Alfred Toole Jr.</dc:creator>
  <dc:description/>
  <dc:language>en-US</dc:language>
  <cp:lastModifiedBy>localuser</cp:lastModifiedBy>
  <dcterms:modified xsi:type="dcterms:W3CDTF">2010-07-17T21:40:38Z</dcterms:modified>
  <cp:revision>19</cp:revision>
  <dc:subject/>
  <dc:title>Blindness</dc:title>
</cp:coreProperties>
</file>