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23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15.wmf" ContentType="image/x-wmf"/>
  <Override PartName="/ppt/media/image20.png" ContentType="image/png"/>
  <Override PartName="/ppt/media/image2.wmf" ContentType="image/x-wmf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28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F4D2-2DAF-46EF-953E-E7589955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128-6A84-4069-A2E9-52F0E8F0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568-948D-4AC3-A4BA-767F5239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EAC1-2673-4E8F-BD44-DEF4EC1E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64E-89A9-405F-A622-120D84BB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992-A243-4309-A362-8EBC35A8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8AA-2A12-4894-A350-8153F75C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CB4B-4F69-406A-BEEF-73FE6848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4BB4-6DE7-4C41-B06D-AED07003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4D0-7A82-48A3-8488-A4B80F13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190-9289-4F6F-A649-43815B3B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95D-68E2-4E4C-8B64-203D27BE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0027-6033-4DCC-A542-04F8BACC7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762120" y="-228600"/>
            <a:ext cx="10267920" cy="9785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 rot="16914600">
            <a:off x="2440800" y="1008360"/>
            <a:ext cx="817560" cy="669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772400" y="4800600"/>
            <a:ext cx="1066680" cy="5508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76320" y="4876920"/>
            <a:ext cx="1676160" cy="3352680"/>
          </a:xfrm>
          <a:prstGeom prst="rect">
            <a:avLst/>
          </a:prstGeom>
          <a:solidFill>
            <a:srgbClr val="75b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152280" y="5029200"/>
            <a:ext cx="457200" cy="1752480"/>
            <a:chOff x="152280" y="5029200"/>
            <a:chExt cx="457200" cy="1752480"/>
          </a:xfrm>
        </p:grpSpPr>
        <p:sp>
          <p:nvSpPr>
            <p:cNvPr id="10" name=""/>
            <p:cNvSpPr/>
            <p:nvPr/>
          </p:nvSpPr>
          <p:spPr>
            <a:xfrm>
              <a:off x="152280" y="5029200"/>
              <a:ext cx="457200" cy="304920"/>
            </a:xfrm>
            <a:prstGeom prst="rect">
              <a:avLst/>
            </a:prstGeom>
            <a:solidFill>
              <a:srgbClr val="339966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rcRect l="0" t="43978" r="33351" b="20889"/>
            <a:stretch/>
          </p:blipFill>
          <p:spPr>
            <a:xfrm>
              <a:off x="152280" y="5562720"/>
              <a:ext cx="4572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"/>
            <p:cNvSpPr/>
            <p:nvPr/>
          </p:nvSpPr>
          <p:spPr>
            <a:xfrm>
              <a:off x="152280" y="5562720"/>
              <a:ext cx="457200" cy="3045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" name="" descr=""/>
            <p:cNvPicPr/>
            <p:nvPr/>
          </p:nvPicPr>
          <p:blipFill>
            <a:blip r:embed="rId6"/>
            <a:srcRect l="0" t="50041" r="28198" b="24187"/>
            <a:stretch/>
          </p:blipFill>
          <p:spPr>
            <a:xfrm>
              <a:off x="152280" y="6019920"/>
              <a:ext cx="4572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152280" y="6019920"/>
              <a:ext cx="457200" cy="3045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" name="" descr=""/>
            <p:cNvPicPr/>
            <p:nvPr/>
          </p:nvPicPr>
          <p:blipFill>
            <a:blip r:embed="rId7"/>
            <a:srcRect l="11983" t="51211" r="48146" b="29845"/>
            <a:stretch/>
          </p:blipFill>
          <p:spPr>
            <a:xfrm>
              <a:off x="152280" y="6461280"/>
              <a:ext cx="45720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" name=""/>
          <p:cNvSpPr/>
          <p:nvPr/>
        </p:nvSpPr>
        <p:spPr>
          <a:xfrm>
            <a:off x="152280" y="6477120"/>
            <a:ext cx="457200" cy="3045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 txBox="1"/>
          <p:nvPr/>
        </p:nvSpPr>
        <p:spPr>
          <a:xfrm>
            <a:off x="838080" y="510552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" name=""/>
          <p:cNvSpPr txBox="1"/>
          <p:nvPr/>
        </p:nvSpPr>
        <p:spPr>
          <a:xfrm>
            <a:off x="838080" y="5562720"/>
            <a:ext cx="914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ild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" name=""/>
          <p:cNvSpPr txBox="1"/>
          <p:nvPr/>
        </p:nvSpPr>
        <p:spPr>
          <a:xfrm>
            <a:off x="838080" y="6095880"/>
            <a:ext cx="56700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V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" name=""/>
          <p:cNvSpPr txBox="1"/>
          <p:nvPr/>
        </p:nvSpPr>
        <p:spPr>
          <a:xfrm>
            <a:off x="838080" y="6553080"/>
            <a:ext cx="609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k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" name=""/>
          <p:cNvSpPr/>
          <p:nvPr/>
        </p:nvSpPr>
        <p:spPr>
          <a:xfrm>
            <a:off x="34290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43434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52578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61722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70866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8001000" y="6094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 flipH="1">
            <a:off x="2209680" y="16765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 flipH="1">
            <a:off x="2209680" y="25909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 flipH="1">
            <a:off x="2209680" y="35053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 flipH="1">
            <a:off x="2209680" y="44197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2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3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4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5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6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7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22.wmf"/><Relationship Id="rId7" Type="http://schemas.openxmlformats.org/officeDocument/2006/relationships/image" Target="../media/image10.wmf"/><Relationship Id="rId8" Type="http://schemas.openxmlformats.org/officeDocument/2006/relationships/image" Target="../media/image22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22.wmf"/><Relationship Id="rId7" Type="http://schemas.openxmlformats.org/officeDocument/2006/relationships/image" Target="../media/image10.wmf"/><Relationship Id="rId8" Type="http://schemas.openxmlformats.org/officeDocument/2006/relationships/image" Target="../media/image22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22.wmf"/><Relationship Id="rId7" Type="http://schemas.openxmlformats.org/officeDocument/2006/relationships/image" Target="../media/image10.wmf"/><Relationship Id="rId8" Type="http://schemas.openxmlformats.org/officeDocument/2006/relationships/image" Target="../media/image22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0.wmf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22.wmf"/><Relationship Id="rId7" Type="http://schemas.openxmlformats.org/officeDocument/2006/relationships/image" Target="../media/image10.wmf"/><Relationship Id="rId8" Type="http://schemas.openxmlformats.org/officeDocument/2006/relationships/image" Target="../media/image22.wm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tmp/home/.config/libreoffice/4/user/gallery/chimes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mapquest.com/maps?zipcode=22903#a/maps/l:::Charlottesville:VA:22903:US:38.0309:-78.5424:zip:Charlottesville+City:1/m:hyb:10:38.0309:-78.5424:0:::::1:1:1::/io:0:::::f:EN:M:/e" TargetMode="External"/><Relationship Id="rId2" Type="http://schemas.openxmlformats.org/officeDocument/2006/relationships/hyperlink" Target="http://all-free-download.com/images/graphiclarge/men_women_bathroom_clip_art_9342.jpg" TargetMode="External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 rot="18854400">
            <a:off x="2266200" y="172080"/>
            <a:ext cx="5057640" cy="5779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p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6248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: Mr. To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Layou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2882" t="28793" r="15076" b="15117"/>
          <a:stretch/>
        </p:blipFill>
        <p:spPr>
          <a:xfrm>
            <a:off x="1752480" y="1905120"/>
            <a:ext cx="4343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Leg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552" t="21471" r="13635" b="11712"/>
          <a:stretch/>
        </p:blipFill>
        <p:spPr>
          <a:xfrm>
            <a:off x="3048120" y="1523880"/>
            <a:ext cx="3124080" cy="2667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124080" y="1600200"/>
            <a:ext cx="3048120" cy="25909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Sca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1882" r="0" b="43868"/>
          <a:stretch/>
        </p:blipFill>
        <p:spPr>
          <a:xfrm>
            <a:off x="1752480" y="2590920"/>
            <a:ext cx="472464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Symbo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13179" r="0" b="11534"/>
          <a:stretch/>
        </p:blipFill>
        <p:spPr>
          <a:xfrm>
            <a:off x="609480" y="1600200"/>
            <a:ext cx="4048200" cy="3048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rcRect l="4552" t="21471" r="13635" b="11712"/>
          <a:stretch/>
        </p:blipFill>
        <p:spPr>
          <a:xfrm>
            <a:off x="4800600" y="1600200"/>
            <a:ext cx="3124080" cy="2666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76920" y="144792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2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direction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line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listing 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ins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2362320" y="5867280"/>
            <a:ext cx="609480" cy="586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2666880" y="4406760"/>
            <a:ext cx="304920" cy="293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rcRect l="0" t="28793" r="12195" b="13676"/>
          <a:stretch/>
        </p:blipFill>
        <p:spPr>
          <a:xfrm>
            <a:off x="2209680" y="3733920"/>
            <a:ext cx="838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876920"/>
            <a:ext cx="685800" cy="19810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phic that represents some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4290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01000" y="609480"/>
            <a:ext cx="0" cy="495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209680" y="1676520"/>
            <a:ext cx="69343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209680" y="2590920"/>
            <a:ext cx="69343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209680" y="3505320"/>
            <a:ext cx="69343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209680" y="4419720"/>
            <a:ext cx="69343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pendicular &amp; Parallel lines on a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25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250" autoRev="1" fill="hold"/>
                                        <p:tgtEl>
                                          <p:spTgt spid="1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25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25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25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Comp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762120"/>
            <a:ext cx="1066680" cy="9903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ows direction (N, S, E &amp; 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250" autoRev="1" fill="hold"/>
                                        <p:tgtEl>
                                          <p:spTgt spid="2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3720" y="5715000"/>
            <a:ext cx="6933960" cy="11430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56068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BC listing of what’s on your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Le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4876920"/>
            <a:ext cx="1752480" cy="19810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end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tains keys AND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8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4876920"/>
            <a:ext cx="1066680" cy="19810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312408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plains what the symbols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25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43800" y="4876920"/>
            <a:ext cx="1600200" cy="5331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ows distance on a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33520"/>
            <a:ext cx="1828800" cy="10666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out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ows where stuff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25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direction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line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listing 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ins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2362320" y="5867280"/>
            <a:ext cx="609480" cy="5860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8"/>
          <a:stretch/>
        </p:blipFill>
        <p:spPr>
          <a:xfrm>
            <a:off x="2666880" y="4406760"/>
            <a:ext cx="304920" cy="2937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9"/>
          <a:srcRect l="0" t="28793" r="12195" b="13676"/>
          <a:stretch/>
        </p:blipFill>
        <p:spPr>
          <a:xfrm>
            <a:off x="2209680" y="3733920"/>
            <a:ext cx="838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0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95280" y="1447920"/>
            <a:ext cx="1067040" cy="12952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2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3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066680" y="762120"/>
            <a:ext cx="685800" cy="6858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ompas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250" autoRev="1" fill="hold"/>
                                        <p:tgtEl>
                                          <p:spTgt spid="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838080" y="1371600"/>
            <a:ext cx="533520" cy="13716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25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2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47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9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838080" y="1371600"/>
            <a:ext cx="1524240" cy="12952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Leg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250" autoRev="1" fill="hold"/>
                                        <p:tgtEl>
                                          <p:spTgt spid="3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2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2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2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505320" y="0"/>
            <a:ext cx="1981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05320" y="990720"/>
            <a:ext cx="1888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48160" y="1714680"/>
            <a:ext cx="177156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548160" y="2610000"/>
            <a:ext cx="15620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05320" y="3124080"/>
            <a:ext cx="1771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81280" y="4038480"/>
            <a:ext cx="1771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81280" y="487692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81280" y="5791320"/>
            <a:ext cx="198144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70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2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934320" y="0"/>
            <a:ext cx="1828800" cy="67057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250" autoRev="1" fill="hold"/>
                                        <p:tgtEl>
                                          <p:spTgt spid="3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2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2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2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8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 rot="5400000">
            <a:off x="3047400" y="-2209680"/>
            <a:ext cx="914400" cy="53341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1" dur="250" autoRev="1" fill="hold"/>
                                        <p:tgtEl>
                                          <p:spTgt spid="4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416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8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1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3352680" y="114300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81480" y="2133720"/>
            <a:ext cx="68580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487692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67080" y="396252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952880" y="571500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6019920"/>
            <a:ext cx="106704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Labe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8" dur="250" autoRev="1" fill="hold"/>
                                        <p:tgtEl>
                                          <p:spTgt spid="4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1" dur="250" autoRev="1" fill="hold"/>
                                        <p:tgtEl>
                                          <p:spTgt spid="4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4" dur="250" autoRev="1" fill="hold"/>
                                        <p:tgtEl>
                                          <p:spTgt spid="4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7" dur="250" autoRev="1" fill="hold"/>
                                        <p:tgtEl>
                                          <p:spTgt spid="4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0" dur="250" autoRev="1" fill="hold"/>
                                        <p:tgtEl>
                                          <p:spTgt spid="4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2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444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6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9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343400" y="6248520"/>
            <a:ext cx="68580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2057400"/>
            <a:ext cx="381240" cy="3049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2133720"/>
            <a:ext cx="38088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7878200">
            <a:off x="457560" y="4419000"/>
            <a:ext cx="106668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429000" y="4876920"/>
            <a:ext cx="457200" cy="3045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00200" y="5715000"/>
            <a:ext cx="685800" cy="457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14400" y="1447920"/>
            <a:ext cx="380880" cy="12952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250" autoRev="1" fill="hold"/>
                                        <p:tgtEl>
                                          <p:spTgt spid="4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250" autoRev="1" fill="hold"/>
                                        <p:tgtEl>
                                          <p:spTgt spid="4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250" autoRev="1" fill="hold"/>
                                        <p:tgtEl>
                                          <p:spTgt spid="4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2" dur="250" autoRev="1" fill="hold"/>
                                        <p:tgtEl>
                                          <p:spTgt spid="4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473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5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8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6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9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2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8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1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4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250" autoRev="1" fill="hold"/>
                                        <p:tgtEl>
                                          <p:spTgt spid="4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250" autoRev="1" fill="hold"/>
                                        <p:tgtEl>
                                          <p:spTgt spid="4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3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6" dur="250" autoRev="1" fill="hold"/>
                                        <p:tgtEl>
                                          <p:spTgt spid="4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2" dur="250" autoRev="1" fill="hold"/>
                                        <p:tgtEl>
                                          <p:spTgt spid="4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5" dur="250" autoRev="1" fill="hold"/>
                                        <p:tgtEl>
                                          <p:spTgt spid="4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2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2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2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838080" y="762120"/>
            <a:ext cx="5257800" cy="5790960"/>
            <a:chOff x="838080" y="762120"/>
            <a:chExt cx="5257800" cy="5790960"/>
          </a:xfrm>
        </p:grpSpPr>
        <p:pic>
          <p:nvPicPr>
            <p:cNvPr id="495" name="" descr=""/>
            <p:cNvPicPr/>
            <p:nvPr/>
          </p:nvPicPr>
          <p:blipFill>
            <a:blip r:embed="rId1"/>
            <a:srcRect l="1411" t="2883" r="1411" b="8635"/>
            <a:stretch/>
          </p:blipFill>
          <p:spPr>
            <a:xfrm>
              <a:off x="838080" y="4210200"/>
              <a:ext cx="5257800" cy="23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2"/>
            <a:srcRect l="1408" t="10215" r="1581" b="4681"/>
            <a:stretch/>
          </p:blipFill>
          <p:spPr>
            <a:xfrm>
              <a:off x="838080" y="762120"/>
              <a:ext cx="525780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7" name="" descr=""/>
          <p:cNvPicPr/>
          <p:nvPr/>
        </p:nvPicPr>
        <p:blipFill>
          <a:blip r:embed="rId3"/>
          <a:srcRect l="43139" t="9373" r="15686" b="11948"/>
          <a:stretch/>
        </p:blipFill>
        <p:spPr>
          <a:xfrm>
            <a:off x="7010280" y="3429000"/>
            <a:ext cx="1600200" cy="32004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"/>
          <a:srcRect l="0" t="9373" r="58825" b="4452"/>
          <a:stretch/>
        </p:blipFill>
        <p:spPr>
          <a:xfrm>
            <a:off x="7010280" y="0"/>
            <a:ext cx="1600200" cy="35053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 txBox="1"/>
          <p:nvPr/>
        </p:nvSpPr>
        <p:spPr>
          <a:xfrm>
            <a:off x="990720" y="152280"/>
            <a:ext cx="48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ulpture Trail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0" name=""/>
          <p:cNvSpPr/>
          <p:nvPr/>
        </p:nvSpPr>
        <p:spPr>
          <a:xfrm>
            <a:off x="1523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361960" y="762120"/>
            <a:ext cx="7596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3526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67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1814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958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837720" y="18288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837720" y="27432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837720" y="36576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837720" y="4572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837720" y="76212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837720" y="571500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837720" y="6553080"/>
            <a:ext cx="52578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38080" y="762120"/>
            <a:ext cx="0" cy="57909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5"/>
          <a:srcRect l="4552" t="19560" r="13635" b="10869"/>
          <a:stretch/>
        </p:blipFill>
        <p:spPr>
          <a:xfrm>
            <a:off x="914400" y="1447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7162920" y="3733920"/>
            <a:ext cx="380880" cy="28191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86600" y="228600"/>
            <a:ext cx="380880" cy="32767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51055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dex Referen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9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2" dur="250" autoRev="1" fill="hold"/>
                                        <p:tgtEl>
                                          <p:spTgt spid="5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2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2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2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Grid Lo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5791320"/>
            <a:ext cx="533520" cy="10666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8153280" y="1143000"/>
            <a:ext cx="719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mpa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8153280" y="17524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r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196120" y="2209680"/>
            <a:ext cx="6429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d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8196120" y="2800440"/>
            <a:ext cx="56700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196120" y="32004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ay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196120" y="3657600"/>
            <a:ext cx="642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g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8196120" y="4114800"/>
            <a:ext cx="719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196120" y="4629240"/>
            <a:ext cx="71928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ymb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Locations-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und in the Index, gives map reference points for stuff found on the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me to remove text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077320" y="838080"/>
            <a:ext cx="91440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24280" y="5791320"/>
            <a:ext cx="457200" cy="3045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724280" y="6705720"/>
            <a:ext cx="457200" cy="3045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10280" y="5791320"/>
            <a:ext cx="457200" cy="30456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6667560"/>
            <a:ext cx="457200" cy="3808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6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9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2" dur="250" autoRev="1" fill="hold"/>
                                        <p:tgtEl>
                                          <p:spTgt spid="5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5" dur="250" autoRev="1" fill="hold"/>
                                        <p:tgtEl>
                                          <p:spTgt spid="5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8" dur="250" autoRev="1" fill="hold"/>
                                        <p:tgtEl>
                                          <p:spTgt spid="5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3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direction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line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listing 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ins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2362320" y="5867280"/>
            <a:ext cx="609480" cy="5860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7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8"/>
          <a:stretch/>
        </p:blipFill>
        <p:spPr>
          <a:xfrm>
            <a:off x="2666880" y="4406760"/>
            <a:ext cx="304920" cy="2937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9"/>
          <a:srcRect l="0" t="28793" r="12195" b="13676"/>
          <a:stretch/>
        </p:blipFill>
        <p:spPr>
          <a:xfrm>
            <a:off x="2209680" y="3733920"/>
            <a:ext cx="838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1) What would I use to see if I’m travelling No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Le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5400000">
            <a:off x="1371600" y="45684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250" autoRev="1" fill="hold"/>
                                        <p:tgtEl>
                                          <p:spTgt spid="5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2) Where would I look to find a list of c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5400000">
            <a:off x="1371600" y="106632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8" dur="250" autoRev="1" fill="hold"/>
                                        <p:tgtEl>
                                          <p:spTgt spid="5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3) Where would I look to figure out what a symbol me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Le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5400000">
            <a:off x="1257120" y="1409400"/>
            <a:ext cx="1219320" cy="281952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3" dur="250" autoRev="1" fill="hold"/>
                                        <p:tgtEl>
                                          <p:spTgt spid="5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4) What shows how far an inch is on a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Le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5400000">
            <a:off x="2399760" y="1485720"/>
            <a:ext cx="914400" cy="449604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8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5) What helps me locate a specific place on a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5400000">
            <a:off x="1371600" y="45684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3" dur="250" autoRev="1" fill="hold"/>
                                        <p:tgtEl>
                                          <p:spTgt spid="5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6) What is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4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 an exampl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Grid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1790640" y="647280"/>
            <a:ext cx="914400" cy="358128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8" dur="250" autoRev="1" fill="hold"/>
                                        <p:tgtEl>
                                          <p:spTgt spid="5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35100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7) What do maps use to identify cities, buildings, parks, roads or rivers on a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1485720" y="1790640"/>
            <a:ext cx="6858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5400000">
            <a:off x="1447920" y="2514240"/>
            <a:ext cx="76176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3" dur="25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0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8) What let’s me know the distance between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 c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Com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Mileag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5400000">
            <a:off x="1904760" y="533160"/>
            <a:ext cx="762120" cy="36576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5400000">
            <a:off x="1904760" y="1295280"/>
            <a:ext cx="762120" cy="36576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5" dur="250" autoRev="1" fill="hold"/>
                                        <p:tgtEl>
                                          <p:spTgt spid="5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2" dur="250" autoRev="1" fill="hold"/>
                                        <p:tgtEl>
                                          <p:spTgt spid="5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9) What are the little icons or pictures on a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Leg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5400000">
            <a:off x="1447920" y="1676160"/>
            <a:ext cx="914400" cy="274320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7" dur="250" autoRev="1" fill="hold"/>
                                        <p:tgtEl>
                                          <p:spTgt spid="5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10) What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 things could be added to improve this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rcRect l="28943" t="7789" r="3525" b="40821"/>
          <a:stretch/>
        </p:blipFill>
        <p:spPr>
          <a:xfrm>
            <a:off x="1523880" y="1641600"/>
            <a:ext cx="6248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rec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n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sting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plain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raw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905120" y="3048120"/>
            <a:ext cx="685800" cy="503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rcRect l="0" t="28793" r="12195" b="13676"/>
          <a:stretch/>
        </p:blipFill>
        <p:spPr>
          <a:xfrm>
            <a:off x="1828800" y="3657600"/>
            <a:ext cx="83808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2971800" y="3048120"/>
            <a:ext cx="357120" cy="525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2743200" y="3733920"/>
            <a:ext cx="658800" cy="36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1828800" y="5715000"/>
            <a:ext cx="609480" cy="404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rcRect l="0" t="13891" r="0" b="44449"/>
          <a:stretch/>
        </p:blipFill>
        <p:spPr>
          <a:xfrm>
            <a:off x="2514600" y="5867280"/>
            <a:ext cx="914400" cy="493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rcRect l="0" t="13891" r="0" b="44449"/>
          <a:stretch/>
        </p:blipFill>
        <p:spPr>
          <a:xfrm>
            <a:off x="2514600" y="4191120"/>
            <a:ext cx="914400" cy="493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See full size image"/>
          <p:cNvPicPr/>
          <p:nvPr/>
        </p:nvPicPr>
        <p:blipFill>
          <a:blip r:embed="rId13"/>
          <a:stretch/>
        </p:blipFill>
        <p:spPr>
          <a:xfrm>
            <a:off x="1905120" y="6248520"/>
            <a:ext cx="5619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0" y="76320"/>
          <a:ext cx="9067680" cy="6526080"/>
        </p:xfrm>
        <a:graphic>
          <a:graphicData uri="http://schemas.openxmlformats.org/drawingml/2006/table">
            <a:tbl>
              <a:tblPr/>
              <a:tblGrid>
                <a:gridCol w="1817640"/>
                <a:gridCol w="1687680"/>
                <a:gridCol w="556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direction (N, S, E &amp; 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pendicular &amp; Parallel line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 listing of what’s on your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ins the symbol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that shows where stuff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Keys and Symb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how far a distance is on a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 that represents something e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rcRect l="0" t="0" r="0" b="43868"/>
          <a:stretch/>
        </p:blipFill>
        <p:spPr>
          <a:xfrm>
            <a:off x="1905120" y="4952880"/>
            <a:ext cx="1447560" cy="6620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2133720" y="297180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2286000" y="609480"/>
            <a:ext cx="555480" cy="4701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2362320" y="5867280"/>
            <a:ext cx="609480" cy="58608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7"/>
          <a:stretch/>
        </p:blipFill>
        <p:spPr>
          <a:xfrm>
            <a:off x="1981080" y="43434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8"/>
          <a:stretch/>
        </p:blipFill>
        <p:spPr>
          <a:xfrm>
            <a:off x="2666880" y="4406760"/>
            <a:ext cx="304920" cy="29376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9"/>
          <a:srcRect l="0" t="28793" r="12195" b="13676"/>
          <a:stretch/>
        </p:blipFill>
        <p:spPr>
          <a:xfrm>
            <a:off x="2209680" y="3733920"/>
            <a:ext cx="83844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ymbol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C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591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6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2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14400" y="6094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2" name="">
            <a:hlinkClick r:id="rId8"/>
          </p:cNvPr>
          <p:cNvSpPr/>
          <p:nvPr/>
        </p:nvSpPr>
        <p:spPr>
          <a:xfrm>
            <a:off x="4800600" y="4495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>
            <a:hlinkClick r:id="rId9"/>
          </p:cNvPr>
          <p:cNvSpPr/>
          <p:nvPr/>
        </p:nvSpPr>
        <p:spPr>
          <a:xfrm>
            <a:off x="5257800" y="4267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5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980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7" dur="250" autoRev="1" fill="hold"/>
                                        <p:tgtEl>
                                          <p:spTgt spid="6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2000"/>
                            </p:stCondLst>
                            <p:childTnLst>
                              <p:par>
                                <p:cTn id="989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992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250" autoRev="1" fill="hold"/>
                                        <p:tgtEl>
                                          <p:spTgt spid="6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1" dur="250" autoRev="1" fill="hold"/>
                                        <p:tgtEl>
                                          <p:spTgt spid="6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3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629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3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4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6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0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1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2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3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4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0" name="">
            <a:hlinkClick r:id="rId8"/>
          </p:cNvPr>
          <p:cNvSpPr/>
          <p:nvPr/>
        </p:nvSpPr>
        <p:spPr>
          <a:xfrm>
            <a:off x="5257800" y="4876920"/>
            <a:ext cx="1066680" cy="990360"/>
          </a:xfrm>
          <a:prstGeom prst="ellipse">
            <a:avLst/>
          </a:prstGeom>
          <a:solidFill>
            <a:srgbClr val="ffffff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>
            <a:hlinkClick r:id="" action="ppaction://hlinkshowjump?jump=previousslide"/>
            <a:hlinkClick r:id="rId9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>
            <a:hlinkClick r:id="" action="ppaction://hlinkshowjump?jump=nextslide"/>
            <a:hlinkClick r:id="rId10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restart="whenNotActive" nodeType="interactiveSeq" fill="hold">
                <p:stCondLst>
                  <p:cond evt="onClick">
                    <p:tgtEl>
                      <p:spTgt spid="657"/>
                    </p:tgtEl>
                  </p:cond>
                </p:stCondLst>
                <p:childTnLst>
                  <p:par>
                    <p:cTn id="1017" fill="hold">
                      <p:stCondLst>
                        <p:cond evt="onClick">
                          <p:tgtEl>
                            <p:spTgt spid="657"/>
                          </p:tgtEl>
                        </p:cond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4" dur="250" autoRev="1" fill="hold"/>
                                        <p:tgtEl>
                                          <p:spTgt spid="6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250" autoRev="1" fill="hold"/>
                                        <p:tgtEl>
                                          <p:spTgt spid="6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the Grid Loc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B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665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9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2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3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7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6" name="">
            <a:hlinkClick r:id="rId8"/>
          </p:cNvPr>
          <p:cNvSpPr/>
          <p:nvPr/>
        </p:nvSpPr>
        <p:spPr>
          <a:xfrm>
            <a:off x="2743200" y="2743200"/>
            <a:ext cx="175248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previousslide"/>
            <a:hlinkClick r:id="rId9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>
            <a:hlinkClick r:id="" action="ppaction://hlinkshowjump?jump=nextslide"/>
            <a:hlinkClick r:id="rId10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042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9" dur="250" autoRev="1" fill="hold"/>
                                        <p:tgtEl>
                                          <p:spTgt spid="6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1" dur="250" autoRev="1" fill="hold"/>
                                        <p:tgtEl>
                                          <p:spTgt spid="6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as 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701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5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9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2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3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4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5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6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7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143000" y="17524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219320" y="12952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2" name="">
            <a:hlinkClick r:id="rId8"/>
          </p:cNvPr>
          <p:cNvSpPr/>
          <p:nvPr/>
        </p:nvSpPr>
        <p:spPr>
          <a:xfrm>
            <a:off x="4267080" y="3581280"/>
            <a:ext cx="22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>
            <a:hlinkClick r:id="" action="ppaction://hlinkshowjump?jump=previousslide"/>
            <a:hlinkClick r:id="rId9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>
            <a:hlinkClick r:id="" action="ppaction://hlinkshowjump?jump=nextslide"/>
            <a:hlinkClick r:id="rId10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1067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4" dur="250" autoRev="1" fill="hold"/>
                                        <p:tgtEl>
                                          <p:spTgt spid="7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1079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250" autoRev="1" fill="hold"/>
                                        <p:tgtEl>
                                          <p:spTgt spid="7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737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5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9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0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2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3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914400" y="6094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8" name="">
            <a:hlinkClick r:id="rId8"/>
          </p:cNvPr>
          <p:cNvSpPr/>
          <p:nvPr/>
        </p:nvSpPr>
        <p:spPr>
          <a:xfrm>
            <a:off x="7238880" y="4495680"/>
            <a:ext cx="1676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>
            <a:hlinkClick r:id="rId9"/>
          </p:cNvPr>
          <p:cNvSpPr/>
          <p:nvPr/>
        </p:nvSpPr>
        <p:spPr>
          <a:xfrm>
            <a:off x="7315200" y="1600200"/>
            <a:ext cx="1676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1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restart="whenNotActive" nodeType="interactiveSeq" fill="hold">
                <p:stCondLst>
                  <p:cond evt="onClick">
                    <p:tgtEl>
                      <p:spTgt spid="765"/>
                    </p:tgtEl>
                  </p:cond>
                </p:stCondLst>
                <p:childTnLst>
                  <p:par>
                    <p:cTn id="1092" fill="hold">
                      <p:stCondLst>
                        <p:cond evt="onClick">
                          <p:tgtEl>
                            <p:spTgt spid="765"/>
                          </p:tgtEl>
                        </p:cond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9" dur="250" autoRev="1" fill="hold"/>
                                        <p:tgtEl>
                                          <p:spTgt spid="7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1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104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1" dur="250" autoRev="1" fill="hold"/>
                                        <p:tgtEl>
                                          <p:spTgt spid="7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3" dur="250" autoRev="1" fill="hold"/>
                                        <p:tgtEl>
                                          <p:spTgt spid="7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5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ymbol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beside a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775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1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3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6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7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8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9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0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1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914400" y="609480"/>
            <a:ext cx="70102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6" name="">
            <a:hlinkClick r:id="rId8"/>
          </p:cNvPr>
          <p:cNvSpPr/>
          <p:nvPr/>
        </p:nvSpPr>
        <p:spPr>
          <a:xfrm>
            <a:off x="6477120" y="4495680"/>
            <a:ext cx="685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>
            <a:hlinkClick r:id="rId9"/>
          </p:cNvPr>
          <p:cNvSpPr/>
          <p:nvPr/>
        </p:nvSpPr>
        <p:spPr>
          <a:xfrm>
            <a:off x="6553080" y="1600200"/>
            <a:ext cx="685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9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1129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6" dur="250" autoRev="1" fill="hold"/>
                                        <p:tgtEl>
                                          <p:spTgt spid="8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8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8" dur="250" autoRev="1" fill="hold"/>
                                        <p:tgtEl>
                                          <p:spTgt spid="8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250" autoRev="1" fill="hold"/>
                                        <p:tgtEl>
                                          <p:spTgt spid="8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2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inside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813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7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8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9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0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1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4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5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7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8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9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0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4" name="">
            <a:hlinkClick r:id="rId8"/>
          </p:cNvPr>
          <p:cNvSpPr/>
          <p:nvPr/>
        </p:nvSpPr>
        <p:spPr>
          <a:xfrm>
            <a:off x="6248520" y="1295280"/>
            <a:ext cx="2895480" cy="556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>
            <a:hlinkClick r:id="" action="ppaction://hlinkshowjump?jump=previousslide"/>
            <a:hlinkClick r:id="rId9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>
            <a:hlinkClick r:id="" action="ppaction://hlinkshowjump?jump=nextslide"/>
            <a:hlinkClick r:id="rId10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1166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3" dur="250" autoRev="1" fill="hold"/>
                                        <p:tgtEl>
                                          <p:spTgt spid="8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1178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5" dur="250" autoRev="1" fill="hold"/>
                                        <p:tgtEl>
                                          <p:spTgt spid="8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bel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n C1 or C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849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3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4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5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6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7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0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1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1066680" y="14479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447920" y="533520"/>
            <a:ext cx="70102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0" name="">
            <a:hlinkClick r:id="rId8"/>
          </p:cNvPr>
          <p:cNvSpPr/>
          <p:nvPr/>
        </p:nvSpPr>
        <p:spPr>
          <a:xfrm rot="5400000">
            <a:off x="2171520" y="4610160"/>
            <a:ext cx="152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>
            <a:hlinkClick r:id="rId9"/>
          </p:cNvPr>
          <p:cNvSpPr/>
          <p:nvPr/>
        </p:nvSpPr>
        <p:spPr>
          <a:xfrm rot="5400000">
            <a:off x="5219640" y="4457520"/>
            <a:ext cx="152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838080" y="609480"/>
            <a:ext cx="701064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3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8" dur="250" autoRev="1" fill="hold"/>
                                        <p:tgtEl>
                                          <p:spTgt spid="8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0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2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1203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0" dur="250" autoRev="1" fill="hold"/>
                                        <p:tgtEl>
                                          <p:spTgt spid="8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4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Tap on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staurant </a:t>
            </a: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n Row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0" y="1295280"/>
            <a:ext cx="9144000" cy="5562720"/>
            <a:chOff x="0" y="1295280"/>
            <a:chExt cx="9144000" cy="5562720"/>
          </a:xfrm>
        </p:grpSpPr>
        <p:pic>
          <p:nvPicPr>
            <p:cNvPr id="887" name="" descr=""/>
            <p:cNvPicPr/>
            <p:nvPr/>
          </p:nvPicPr>
          <p:blipFill>
            <a:blip r:embed="rId1"/>
            <a:srcRect l="0" t="0" r="0" b="27812"/>
            <a:stretch/>
          </p:blipFill>
          <p:spPr>
            <a:xfrm>
              <a:off x="914400" y="1295280"/>
              <a:ext cx="54100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" descr=""/>
            <p:cNvPicPr/>
            <p:nvPr/>
          </p:nvPicPr>
          <p:blipFill>
            <a:blip r:embed="rId2"/>
            <a:srcRect l="0" t="71075" r="49663" b="0"/>
            <a:stretch/>
          </p:blipFill>
          <p:spPr>
            <a:xfrm>
              <a:off x="6400800" y="1523880"/>
              <a:ext cx="262584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" descr=""/>
            <p:cNvPicPr/>
            <p:nvPr/>
          </p:nvPicPr>
          <p:blipFill>
            <a:blip r:embed="rId3"/>
            <a:srcRect l="50344" t="71075" r="0" b="0"/>
            <a:stretch/>
          </p:blipFill>
          <p:spPr>
            <a:xfrm>
              <a:off x="6477120" y="4419720"/>
              <a:ext cx="2590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 txBox="1"/>
            <p:nvPr/>
          </p:nvSpPr>
          <p:spPr>
            <a:xfrm>
              <a:off x="380880" y="148608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1" name=""/>
            <p:cNvSpPr txBox="1"/>
            <p:nvPr/>
          </p:nvSpPr>
          <p:spPr>
            <a:xfrm>
              <a:off x="380880" y="32385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2" name=""/>
            <p:cNvSpPr txBox="1"/>
            <p:nvPr/>
          </p:nvSpPr>
          <p:spPr>
            <a:xfrm>
              <a:off x="380880" y="4952880"/>
              <a:ext cx="352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3" name=""/>
            <p:cNvSpPr txBox="1"/>
            <p:nvPr/>
          </p:nvSpPr>
          <p:spPr>
            <a:xfrm>
              <a:off x="155268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3505320" y="601992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5362560" y="59817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0" y="274320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0" y="426708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0" y="5791320"/>
              <a:ext cx="6248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485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49568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7432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9072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6858000"/>
              <a:ext cx="9144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914400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0" y="1295280"/>
              <a:ext cx="0" cy="556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 txBox="1"/>
            <p:nvPr/>
          </p:nvSpPr>
          <p:spPr>
            <a:xfrm>
              <a:off x="7315200" y="17524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D LIGH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7315200" y="2209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7315200" y="2666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 ROOM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7315200" y="31240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AS STA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1" name=""/>
            <p:cNvSpPr txBox="1"/>
            <p:nvPr/>
          </p:nvSpPr>
          <p:spPr>
            <a:xfrm>
              <a:off x="7315200" y="457200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HOPPIN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7315200" y="60958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TREE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3" name=""/>
            <p:cNvSpPr txBox="1"/>
            <p:nvPr/>
          </p:nvSpPr>
          <p:spPr>
            <a:xfrm>
              <a:off x="7315200" y="510552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TAURANT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4" name=""/>
            <p:cNvSpPr txBox="1"/>
            <p:nvPr/>
          </p:nvSpPr>
          <p:spPr>
            <a:xfrm>
              <a:off x="7315200" y="5638680"/>
              <a:ext cx="1447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PARK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1143000" y="1219320"/>
            <a:ext cx="70102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y Again..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523880" y="2819520"/>
            <a:ext cx="7010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8" name="">
            <a:hlinkClick r:id="rId8"/>
          </p:cNvPr>
          <p:cNvSpPr/>
          <p:nvPr/>
        </p:nvSpPr>
        <p:spPr>
          <a:xfrm rot="5400000">
            <a:off x="2400480" y="339084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>
            <a:hlinkClick r:id="rId9"/>
          </p:cNvPr>
          <p:cNvSpPr/>
          <p:nvPr/>
        </p:nvSpPr>
        <p:spPr>
          <a:xfrm rot="1290600">
            <a:off x="3917520" y="3807000"/>
            <a:ext cx="351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990720" y="2057400"/>
            <a:ext cx="70102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ice Job!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1" name="">
            <a:hlinkClick r:id="" action="ppaction://hlinkshowjump?jump=previousslide"/>
            <a:hlinkClick r:id="rId12"/>
          </p:cNvPr>
          <p:cNvSpPr/>
          <p:nvPr/>
        </p:nvSpPr>
        <p:spPr>
          <a:xfrm>
            <a:off x="228600" y="304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" action="ppaction://hlinkshowjump?jump=nextslide"/>
            <a:hlinkClick r:id="rId13"/>
          </p:cNvPr>
          <p:cNvSpPr/>
          <p:nvPr/>
        </p:nvSpPr>
        <p:spPr>
          <a:xfrm rot="10800000">
            <a:off x="228240" y="60199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1228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5" dur="250" autoRev="1" fill="hold"/>
                                        <p:tgtEl>
                                          <p:spTgt spid="9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7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9" restart="whenNotActive" nodeType="interactiveSeq" fill="hold">
                <p:stCondLst>
                  <p:cond evt="onClick">
                    <p:tgtEl>
                      <p:spTgt spid="918"/>
                    </p:tgtEl>
                  </p:cond>
                </p:stCondLst>
                <p:childTnLst>
                  <p:par>
                    <p:cTn id="1240" fill="hold">
                      <p:stCondLst>
                        <p:cond evt="onClick">
                          <p:tgtEl>
                            <p:spTgt spid="918"/>
                          </p:tgtEl>
                        </p:cond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7" dur="250" autoRev="1" fill="hold"/>
                                        <p:tgtEl>
                                          <p:spTgt spid="9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919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9" dur="250" autoRev="1" fill="hold"/>
                                        <p:tgtEl>
                                          <p:spTgt spid="9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1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ompas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7400" y="933480"/>
            <a:ext cx="4572000" cy="3867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81480" y="2666880"/>
            <a:ext cx="609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1676520" y="1676520"/>
            <a:ext cx="60195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virginia.edu/webmap/ENorthGround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http://www.mapquest.com/maps?zipcode=229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pquest.com/maps?zipcode=22903#a/maps/l:::Charlottesville:VA:22903:US:38.0309:-78.5424:zip:Charlottesville+City:1/m:hyb:10:38.0309:-78.5424:0:::::1:1:1::/io:0:::::f:EN:M:/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ll-free-download.com/images/graphiclarge/men_women_bathroom_clip_art_9342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http://www.wyrmcorp.com/galleries/illusions/Hermann%20Grid.p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http://images.google.com/imgres?imgurl=http://www.jerwood.org/images/sculpture/map/map-index2008.jpg&amp;imgrefurl=http://www.jerwood.org/%3Flid%3D2061&amp;usg=__uMqCo2BWPAGRkERhAD5BEtN59i4=&amp;h=351&amp;w=363&amp;sz=73&amp;hl=en&amp;start=114&amp;tbnid=u2vcKQbqu_XbXM:&amp;tbnh=117&amp;tbnw=121&amp;prev=/images%3Fq%3Dmap%2Bindex%26gbv%3D2%26ndsp%3D20%26hl%3Den%26safe%3Dactive%26sa%3DN%26start%3D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rafflesnagoya.com/img/raffle_map_large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static0.shopify.com/s/files/1/0014/9602/files/NIKE_Swoosh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43828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219320"/>
            <a:ext cx="7596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1219320"/>
            <a:ext cx="7596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1219320"/>
            <a:ext cx="7596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1219320"/>
            <a:ext cx="7632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1219320"/>
            <a:ext cx="7596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342680" y="304776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4342680" y="266688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4343040" y="2285640"/>
            <a:ext cx="7596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4342680" y="190476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4342680" y="152388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4343040" y="1142640"/>
            <a:ext cx="7596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4342680" y="76176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342680" y="38088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4343040" y="0"/>
            <a:ext cx="7596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4342680" y="-38088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342680" y="-761760"/>
            <a:ext cx="763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0970" r="0" b="0"/>
          <a:stretch/>
        </p:blipFill>
        <p:spPr>
          <a:xfrm>
            <a:off x="1828800" y="1295280"/>
            <a:ext cx="45720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90920" y="30492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is thi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3505320" cy="2568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4552" t="21471" r="13635" b="11712"/>
          <a:stretch/>
        </p:blipFill>
        <p:spPr>
          <a:xfrm>
            <a:off x="762120" y="1752480"/>
            <a:ext cx="3124080" cy="2667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76520" y="1752480"/>
            <a:ext cx="2133360" cy="2667240"/>
          </a:xfrm>
          <a:prstGeom prst="rect">
            <a:avLst/>
          </a:prstGeom>
          <a:noFill/>
          <a:ln w="95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21:28:03Z</dcterms:created>
  <dc:creator>localuser</dc:creator>
  <dc:description/>
  <dc:language>en-US</dc:language>
  <cp:lastModifiedBy>Alfred Toole Jr.</cp:lastModifiedBy>
  <dcterms:modified xsi:type="dcterms:W3CDTF">2010-07-16T04:40:08Z</dcterms:modified>
  <cp:revision>66</cp:revision>
  <dc:subject/>
  <dc:title>Map Tutorial</dc:title>
</cp:coreProperties>
</file>