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8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416-8954-4419-B4FD-904D9991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C5F-B411-40A5-8CD0-301880E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364-5BE6-48EE-BC48-EE1EFAFC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A67-1FDD-420C-AF9A-BF4CED22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BCE-5452-4085-AE27-1C46191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231-0B04-490A-969E-FE7CC9B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99F-5307-4C1A-BF40-48D201EA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A00-A0F6-4209-97B6-A59D30A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7D8-244B-4067-9065-3BEF7AB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064-E0FD-4E19-9A3E-46714498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8C7-8F3F-4432-9B1F-C27CBD7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359-F057-4F3A-8255-623A0628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6E3-2CF2-472B-914D-3CB2CB24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762120" y="-228600"/>
            <a:ext cx="10267920" cy="978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6914600">
            <a:off x="2440800" y="1008360"/>
            <a:ext cx="817560" cy="669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1066680" cy="550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320" y="4876920"/>
            <a:ext cx="1676160" cy="3352680"/>
          </a:xfrm>
          <a:prstGeom prst="rect">
            <a:avLst/>
          </a:prstGeom>
          <a:solidFill>
            <a:srgbClr val="75b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52280" y="5029200"/>
            <a:ext cx="457200" cy="1752480"/>
            <a:chOff x="152280" y="5029200"/>
            <a:chExt cx="457200" cy="1752480"/>
          </a:xfrm>
        </p:grpSpPr>
        <p:sp>
          <p:nvSpPr>
            <p:cNvPr id="10" name=""/>
            <p:cNvSpPr/>
            <p:nvPr/>
          </p:nvSpPr>
          <p:spPr>
            <a:xfrm>
              <a:off x="152280" y="5029200"/>
              <a:ext cx="457200" cy="304920"/>
            </a:xfrm>
            <a:prstGeom prst="rect">
              <a:avLst/>
            </a:prstGeom>
            <a:solidFill>
              <a:srgbClr val="33996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rcRect l="0" t="43978" r="33351" b="20889"/>
            <a:stretch/>
          </p:blipFill>
          <p:spPr>
            <a:xfrm>
              <a:off x="152280" y="55627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152280" y="55627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6"/>
            <a:srcRect l="0" t="50041" r="28198" b="24187"/>
            <a:stretch/>
          </p:blipFill>
          <p:spPr>
            <a:xfrm>
              <a:off x="152280" y="60199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52280" y="60199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" name="" descr=""/>
            <p:cNvPicPr/>
            <p:nvPr/>
          </p:nvPicPr>
          <p:blipFill>
            <a:blip r:embed="rId7"/>
            <a:srcRect l="11983" t="51211" r="48146" b="29845"/>
            <a:stretch/>
          </p:blipFill>
          <p:spPr>
            <a:xfrm>
              <a:off x="152280" y="6461280"/>
              <a:ext cx="45720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" name=""/>
          <p:cNvSpPr/>
          <p:nvPr/>
        </p:nvSpPr>
        <p:spPr>
          <a:xfrm>
            <a:off x="152280" y="6477120"/>
            <a:ext cx="457200" cy="304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 txBox="1"/>
          <p:nvPr/>
        </p:nvSpPr>
        <p:spPr>
          <a:xfrm>
            <a:off x="838080" y="510552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" name=""/>
          <p:cNvSpPr txBox="1"/>
          <p:nvPr/>
        </p:nvSpPr>
        <p:spPr>
          <a:xfrm>
            <a:off x="838080" y="556272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ild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" name=""/>
          <p:cNvSpPr txBox="1"/>
          <p:nvPr/>
        </p:nvSpPr>
        <p:spPr>
          <a:xfrm>
            <a:off x="838080" y="6095880"/>
            <a:ext cx="5670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" name=""/>
          <p:cNvSpPr txBox="1"/>
          <p:nvPr/>
        </p:nvSpPr>
        <p:spPr>
          <a:xfrm>
            <a:off x="838080" y="65530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apquest.com/maps?zipcode=22903#a/maps/l:::Charlottesville:VA:22903:US:38.0309:-78.5424:zip:Charlottesville+City:1/m:hyb:10:38.0309:-78.5424:0:::::1:1:1::/io:0:::::f:EN:M:/e" TargetMode="External"/><Relationship Id="rId2" Type="http://schemas.openxmlformats.org/officeDocument/2006/relationships/hyperlink" Target="http://all-free-download.com/images/graphiclarge/men_women_bathroom_clip_art_9342.jpg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854400">
            <a:off x="2266200" y="172080"/>
            <a:ext cx="5057640" cy="5779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6248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Mr. T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82" t="28793" r="15076" b="15117"/>
          <a:stretch/>
        </p:blipFill>
        <p:spPr>
          <a:xfrm>
            <a:off x="1752480" y="190512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552" t="21471" r="13635" b="11712"/>
          <a:stretch/>
        </p:blipFill>
        <p:spPr>
          <a:xfrm>
            <a:off x="3048120" y="15238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1600200"/>
            <a:ext cx="3048120" cy="2590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1882" r="0" b="43868"/>
          <a:stretch/>
        </p:blipFill>
        <p:spPr>
          <a:xfrm>
            <a:off x="1752480" y="2590920"/>
            <a:ext cx="4724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13179" r="0" b="11534"/>
          <a:stretch/>
        </p:blipFill>
        <p:spPr>
          <a:xfrm>
            <a:off x="609480" y="1600200"/>
            <a:ext cx="4048200" cy="304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4800600" y="16002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6920" y="14479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76920"/>
            <a:ext cx="68580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ic that represents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pendicular &amp; Parallel lines on a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762120"/>
            <a:ext cx="1066680" cy="9903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rection (N, S, E &amp; 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715000"/>
            <a:ext cx="6933960" cy="11430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606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C listing of what’s on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876920"/>
            <a:ext cx="17524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ains key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76920"/>
            <a:ext cx="10666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at the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4876920"/>
            <a:ext cx="1600200" cy="533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3520"/>
            <a:ext cx="182880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where stuff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95280" y="1447920"/>
            <a:ext cx="10670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066680" y="762120"/>
            <a:ext cx="685800" cy="6858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38080" y="1371600"/>
            <a:ext cx="533520" cy="1371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38080" y="1371600"/>
            <a:ext cx="15242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05320" y="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05320" y="990720"/>
            <a:ext cx="1888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48160" y="1714680"/>
            <a:ext cx="17715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48160" y="2610000"/>
            <a:ext cx="15620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05320" y="3124080"/>
            <a:ext cx="17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038480"/>
            <a:ext cx="17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81280" y="48769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81280" y="5791320"/>
            <a:ext cx="1981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934320" y="0"/>
            <a:ext cx="1828800" cy="6705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3047400" y="-2209680"/>
            <a:ext cx="914400" cy="53341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352680" y="1143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21337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4876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39625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5715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6019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25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343400" y="62485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57400"/>
            <a:ext cx="381240" cy="304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2133720"/>
            <a:ext cx="3808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7878200">
            <a:off x="457560" y="4419000"/>
            <a:ext cx="10666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8769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571500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1447920"/>
            <a:ext cx="38088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25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4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162920" y="3733920"/>
            <a:ext cx="380880" cy="2819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86600" y="228600"/>
            <a:ext cx="380880" cy="3276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dex Referen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250" autoRev="1" fill="hold"/>
                                        <p:tgtEl>
                                          <p:spTgt spid="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5791320"/>
            <a:ext cx="53352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Locations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in the Index, gives map reference points for stuff found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77320" y="838080"/>
            <a:ext cx="914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67057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6667560"/>
            <a:ext cx="457200" cy="3808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) What would I use to see if I’m travelling N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2) Where would I look to find a list of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371600" y="10663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3) Where would I look to figure out what a symbol m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1257120" y="1409400"/>
            <a:ext cx="1219320" cy="28195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4) What shows how far an inch i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2399760" y="1485720"/>
            <a:ext cx="914400" cy="44960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5) What helps me locate a specific place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6) What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4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an exampl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Gri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1790640" y="647280"/>
            <a:ext cx="914400" cy="3581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35100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7) What do maps use to identify cities, buildings, parks, roads or river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1485720" y="1790640"/>
            <a:ext cx="6858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1447920" y="2514240"/>
            <a:ext cx="76176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8) What let’s me know the distance betwee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ileag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904760" y="53316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904760" y="129528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5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9) What are the little icons or picture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eg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447920" y="167616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0) Wh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things could be added to improve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rcRect l="28943" t="7789" r="3525" b="40821"/>
          <a:stretch/>
        </p:blipFill>
        <p:spPr>
          <a:xfrm>
            <a:off x="1523880" y="1641600"/>
            <a:ext cx="624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rec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stin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lai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aw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68580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rcRect l="0" t="28793" r="12195" b="13676"/>
          <a:stretch/>
        </p:blipFill>
        <p:spPr>
          <a:xfrm>
            <a:off x="1828800" y="3657600"/>
            <a:ext cx="83808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971800" y="3048120"/>
            <a:ext cx="357120" cy="52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743200" y="3733920"/>
            <a:ext cx="65880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828800" y="5715000"/>
            <a:ext cx="609480" cy="40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rcRect l="0" t="13891" r="0" b="44449"/>
          <a:stretch/>
        </p:blipFill>
        <p:spPr>
          <a:xfrm>
            <a:off x="2514600" y="5867280"/>
            <a:ext cx="914400" cy="4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rcRect l="0" t="13891" r="0" b="44449"/>
          <a:stretch/>
        </p:blipFill>
        <p:spPr>
          <a:xfrm>
            <a:off x="2514600" y="41911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/>
          <p:cNvPicPr/>
          <p:nvPr/>
        </p:nvPicPr>
        <p:blipFill>
          <a:blip r:embed="rId13"/>
          <a:stretch/>
        </p:blipFill>
        <p:spPr>
          <a:xfrm>
            <a:off x="1905120" y="6248520"/>
            <a:ext cx="561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59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>
            <a:hlinkClick r:id="rId8"/>
          </p:cNvPr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9"/>
          </p:cNvPr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>
            <a:hlinkClick r:id="rId8"/>
          </p:cNvPr>
          <p:cNvSpPr/>
          <p:nvPr/>
        </p:nvSpPr>
        <p:spPr>
          <a:xfrm>
            <a:off x="5257800" y="4876920"/>
            <a:ext cx="1066680" cy="99036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Grid Lo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>
            <a:hlinkClick r:id="rId8"/>
          </p:cNvPr>
          <p:cNvSpPr/>
          <p:nvPr/>
        </p:nvSpPr>
        <p:spPr>
          <a:xfrm>
            <a:off x="2743200" y="2743200"/>
            <a:ext cx="17524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9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as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143000" y="1752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219320" y="12952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>
            <a:hlinkClick r:id="rId8"/>
          </p:cNvPr>
          <p:cNvSpPr/>
          <p:nvPr/>
        </p:nvSpPr>
        <p:spPr>
          <a:xfrm>
            <a:off x="4267080" y="3581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250" autoRev="1" fill="hold"/>
                                        <p:tgtEl>
                                          <p:spTgt spid="7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7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3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>
            <a:hlinkClick r:id="rId8"/>
          </p:cNvPr>
          <p:cNvSpPr/>
          <p:nvPr/>
        </p:nvSpPr>
        <p:spPr>
          <a:xfrm>
            <a:off x="7238880" y="4495680"/>
            <a:ext cx="1676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rId9"/>
          </p:cNvPr>
          <p:cNvSpPr/>
          <p:nvPr/>
        </p:nvSpPr>
        <p:spPr>
          <a:xfrm>
            <a:off x="7315200" y="160020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9" dur="250" autoRev="1" fill="hold"/>
                                        <p:tgtEl>
                                          <p:spTgt spid="7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1" dur="250" autoRev="1" fill="hold"/>
                                        <p:tgtEl>
                                          <p:spTgt spid="7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eside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7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>
            <a:hlinkClick r:id="rId8"/>
          </p:cNvPr>
          <p:cNvSpPr/>
          <p:nvPr/>
        </p:nvSpPr>
        <p:spPr>
          <a:xfrm>
            <a:off x="6477120" y="4495680"/>
            <a:ext cx="685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rId9"/>
          </p:cNvPr>
          <p:cNvSpPr/>
          <p:nvPr/>
        </p:nvSpPr>
        <p:spPr>
          <a:xfrm>
            <a:off x="6553080" y="1600200"/>
            <a:ext cx="685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inside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13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>
            <a:hlinkClick r:id="rId8"/>
          </p:cNvPr>
          <p:cNvSpPr/>
          <p:nvPr/>
        </p:nvSpPr>
        <p:spPr>
          <a:xfrm>
            <a:off x="6248520" y="1295280"/>
            <a:ext cx="2895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8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250" autoRev="1" fill="hold"/>
                                        <p:tgtEl>
                                          <p:spTgt spid="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e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C1 or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447920" y="5335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>
            <a:hlinkClick r:id="rId8"/>
          </p:cNvPr>
          <p:cNvSpPr/>
          <p:nvPr/>
        </p:nvSpPr>
        <p:spPr>
          <a:xfrm rot="5400000">
            <a:off x="2171520" y="4610160"/>
            <a:ext cx="15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9"/>
          </p:cNvPr>
          <p:cNvSpPr/>
          <p:nvPr/>
        </p:nvSpPr>
        <p:spPr>
          <a:xfrm rot="5400000">
            <a:off x="5219640" y="4457520"/>
            <a:ext cx="152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8080" y="609480"/>
            <a:ext cx="70106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250" autoRev="1" fill="hold"/>
                                        <p:tgtEl>
                                          <p:spTgt spid="8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0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taurant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Row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143000" y="12193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23880" y="28195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>
            <a:hlinkClick r:id="rId8"/>
          </p:cNvPr>
          <p:cNvSpPr/>
          <p:nvPr/>
        </p:nvSpPr>
        <p:spPr>
          <a:xfrm rot="5400000">
            <a:off x="2400480" y="33908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9"/>
          </p:cNvPr>
          <p:cNvSpPr/>
          <p:nvPr/>
        </p:nvSpPr>
        <p:spPr>
          <a:xfrm rot="1290600">
            <a:off x="3917520" y="3807000"/>
            <a:ext cx="35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90720" y="20574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40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250" autoRev="1" fill="hold"/>
                                        <p:tgtEl>
                                          <p:spTgt spid="9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25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933480"/>
            <a:ext cx="4572000" cy="386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26668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virginia.edu/webmap/ENorthGroun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http://www.mapquest.com/maps?zipcode=22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pquest.com/maps?zipcode=22903#a/maps/l:::Charlottesville:VA:22903:US:38.0309:-78.5424:zip:Charlottesville+City:1/m:hyb:10:38.0309:-78.5424:0:::::1:1:1::/io:0:::::f:EN:M: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l-free-download.com/images/graphiclarge/men_women_bathroom_clip_art_934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ttp://www.wyrmcorp.com/galleries/illusions/Hermann%20Grid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http://images.google.com/imgres?imgurl=http://www.jerwood.org/images/sculpture/map/map-index2008.jpg&amp;imgrefurl=http://www.jerwood.org/%3Flid%3D2061&amp;usg=__uMqCo2BWPAGRkERhAD5BEtN59i4=&amp;h=351&amp;w=363&amp;sz=73&amp;hl=en&amp;start=114&amp;tbnid=u2vcKQbqu_XbXM:&amp;tbnh=117&amp;tbnw=121&amp;prev=/images%3Fq%3Dmap%2Bindex%26gbv%3D2%26ndsp%3D20%26hl%3Den%26safe%3Dactive%26sa%3DN%26start%3D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afflesnagoya.com/img/raffle_map_larg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atic0.shopify.com/s/files/1/0014/9602/files/NIKE_Swoosh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8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342680" y="3047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342680" y="2666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343040" y="2285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2680" y="1904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342680" y="1523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343040" y="1142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342680" y="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342680" y="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43040" y="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342680" y="-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342680" y="-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0970" r="0" b="0"/>
          <a:stretch/>
        </p:blipFill>
        <p:spPr>
          <a:xfrm>
            <a:off x="1828800" y="1295280"/>
            <a:ext cx="4572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05320" cy="256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762120" y="17524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1752480"/>
            <a:ext cx="2133360" cy="26672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1:28:03Z</dcterms:created>
  <dc:creator>localuser</dc:creator>
  <dc:description/>
  <dc:language>en-US</dc:language>
  <cp:lastModifiedBy>Alfred Toole Jr.</cp:lastModifiedBy>
  <dcterms:modified xsi:type="dcterms:W3CDTF">2010-07-16T04:40:08Z</dcterms:modified>
  <cp:revision>66</cp:revision>
  <dc:subject/>
  <dc:title>Map Tutorial</dc:title>
</cp:coreProperties>
</file>